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34D-D1E3-4092-BDBA-BEB3045C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8C8-D885-4C35-9998-A37BB828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3C9-27E0-4BE7-B265-800C061B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B9C-C6EE-4F51-9B96-E19FFB85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AE7-3D27-47FD-9FB0-4CA619E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551-7492-48E8-9AA2-7223BF24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7EB-CD4D-4872-B9BE-DE13023F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84B-CE3B-4064-9AED-ECAFC130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F67-0492-47B5-BAAB-D5FE0BB2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1BE-F66B-4D5C-B823-19EAF5D2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0C7-6952-4E81-8C9C-297B6DE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E8A-5E89-4931-8553-8E0B9B59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835E-DA2E-457A-B55A-AB447EE77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le of Gettysbu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battle, Gettysburg was in sham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51,000 killed, wounded, and missing soldiers lef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ed and dying crowded into every building in the 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dead were hastily buried or not buried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tle of Gettysburg begins about 8 a.m. on McPherson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3:30 p.m., the Union line breaks and troops fall back through the town to Cemetery H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,000 Confederates vs. 20,000 Federals eng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e army takes high ground on Seminary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e troops attack both the right and left flanks of the Union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ults on both Union flanks turned back, with some loss of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in the afternoon, Union center repulses “Pickett’s Char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reached by Confederate troops on Cemetery Ridge called “the High Water Mark of the Confederac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0 Confederates vs. 20,000 Federals eng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9:52:36Z</dcterms:created>
  <dc:creator>Cat Skintik</dc:creator>
  <dc:description/>
  <dc:language>en-US</dc:language>
  <cp:lastModifiedBy>Julie Hotchkiss</cp:lastModifiedBy>
  <dcterms:modified xsi:type="dcterms:W3CDTF">2004-09-23T11:47:35Z</dcterms:modified>
  <cp:revision>7</cp:revision>
  <dc:subject/>
  <dc:title>Gettysburg</dc:title>
</cp:coreProperties>
</file>